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584A-D3CF-4699-99C3-ED3836B1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478B-A2F9-4F2C-AB03-C2E3E7CA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6B03-8753-4638-99E2-51AE95266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C457-B252-4C6D-BB53-F3A518815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8BB9-4A4C-45A0-A81A-442CEB31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B9BC-AB37-4B79-A58F-AEB1EF8A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830C-C55C-496F-A936-00C0CB6A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BFF0-06E9-4B90-BD47-98B75719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596B-6317-4F7A-8033-C34CF7ED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B518-46FF-4F7E-A942-1E59D314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79E5-4E46-4B21-B5CA-504328DF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BD15-806D-4905-B711-C929D2E8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587B-747B-419C-864A-FB844B449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Applied Software Development Projec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utomating Traveling Cylinder Map Cre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der Pl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tesian p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underst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 to visualiz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not Show Uncertain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800600" y="1143000"/>
          <a:ext cx="3641760" cy="53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143000"/>
                    <a:ext cx="3641760" cy="53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veling Cyli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 P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 to Underst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Visualize Close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Display Uncertain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267080" y="1676520"/>
          <a:ext cx="4411800" cy="44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676520"/>
                    <a:ext cx="4411800" cy="44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inary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s Close Approach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ses ou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s calc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s to a data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s user err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un-Tim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ten in BasicC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s file from other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ws circles, well paths and 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s several man-h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s human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s more professional dia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23:43:42Z</dcterms:created>
  <dc:creator>SLB</dc:creator>
  <dc:description/>
  <dc:language>en-US</dc:language>
  <cp:lastModifiedBy>SLB</cp:lastModifiedBy>
  <dcterms:modified xsi:type="dcterms:W3CDTF">2002-11-18T23:43:54Z</dcterms:modified>
  <cp:revision>1</cp:revision>
  <dc:subject/>
  <dc:title>Applied Software Development Project </dc:title>
</cp:coreProperties>
</file>